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1E8-9E6C-4E1E-85D6-087C970E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19E-1DD7-4BBF-9340-63F65EFD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C7A-587F-4255-A2FD-96CF4E4D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91E-5D1D-4F9A-8479-D3AA6A9C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4294-75FD-4A58-A4F0-7E9C783A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6E83-88E4-4D1C-8E00-229C7588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73FA-BB8A-4F0C-96F2-AFF678EB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C154-873D-4AF9-98AA-93EB25DC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0447-DA73-45DE-B66C-25DD1450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4BB8-BE05-437B-8E0A-35DFB93A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D3DB-1CB5-47CC-933C-D02B5B2D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D8D-B1D3-4D49-9D64-B82C0550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9EDD-CB73-4F38-8D08-55EE6E7B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0A52-46B5-4276-BE72-53EB8720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6F98-6243-488C-87DE-0D44C2DF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B663-B06C-4A15-A47F-A3254FB2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E4E5-ACEE-42C1-A3AD-18BD7451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BDB-2B16-49AE-A0D9-35D5ACEF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AA5-D8F7-42DC-831A-AF8E6150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0B6-55F9-47A8-A5C4-DE94401F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56F-E25A-4EAB-AE3C-FF554E83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A8B-C203-479C-A30F-F5C152FD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F27-B779-4DF4-A2FB-9E2B0A4C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3B8-1FEF-4AB7-B95E-85F3A019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9E32-2078-456B-B99E-C79452AFF2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7C6A-1AD9-4A24-A445-3D41A1FF14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itannic Bold"/>
              </a:rPr>
              <a:t>Pearl and Wagner: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Britannic Bold"/>
              </a:rPr>
              <a:t>Two Good Fri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438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3* Week 1*Day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e brought the frisky puppies to the beach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farmer looked behind the shed door for the stakes and pole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id she promise Bert that we would get the benche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e made lunches for everybody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 begin to have dreams the minute I go to sleep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teacher felt sorry that one person did not get to read a vers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9:43:49Z</dcterms:created>
  <dc:creator>llefever</dc:creator>
  <dc:description/>
  <dc:language>en-US</dc:language>
  <cp:lastModifiedBy>teacher</cp:lastModifiedBy>
  <dcterms:modified xsi:type="dcterms:W3CDTF">2010-11-01T00:39:05Z</dcterms:modified>
  <cp:revision>4</cp:revision>
  <dc:subject/>
  <dc:title>Pearl and Wagner:   Two Good Frien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4870965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Scott Foresman 2nd grade </vt:lpwstr>
  </property>
</Properties>
</file>